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37F-8B6F-43E4-9AB5-0BFA76B5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79C-0D3F-48AD-8789-80D6E91D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A47B-9AC9-48E6-8E36-2E49D00A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54E-58E8-4A52-B40C-4AB57DAB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7E0-5897-4FA4-8442-ABC33871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280-05D2-45AF-9FCE-39529D1F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FAC-A5E4-422C-B2B1-DE87EF0C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43A-F11F-4D02-BE80-59C88CDC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FD8-75EC-49CC-9FE5-0E82D8C5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8E1-8652-4D0F-81A5-41B9D5DE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2F7-C787-4D3E-A425-57795260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37D-C19A-4ACB-A7DA-06FB96D8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97B0-9CC8-49E6-8FEB-C3912DC883C6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484280"/>
            <a:ext cx="741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PRONUMELE PERSONA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Demi Cond"/>
              <a:ea typeface="Franklin Gothic Demi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259560"/>
            <a:ext cx="864216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Alc</a:t>
            </a:r>
            <a:r>
              <a:rPr b="1" lang="ro-RO" sz="2800" spc="-1" strike="noStrike">
                <a:solidFill>
                  <a:srgbClr val="ff0066"/>
                </a:solidFill>
                <a:latin typeface="Times New Roman"/>
              </a:rPr>
              <a:t>ă</a:t>
            </a: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tuie</a:t>
            </a:r>
            <a:r>
              <a:rPr b="1" lang="ro-RO" sz="2800" spc="-1" strike="noStrike">
                <a:solidFill>
                  <a:srgbClr val="ff0066"/>
                </a:solidFill>
                <a:latin typeface="Times New Roman"/>
              </a:rPr>
              <a:t>ş</a:t>
            </a: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te enun</a:t>
            </a:r>
            <a:r>
              <a:rPr b="1" lang="ro-RO" sz="2800" spc="-1" strike="noStrike">
                <a:solidFill>
                  <a:srgbClr val="ff0066"/>
                </a:solidFill>
                <a:latin typeface="Times New Roman"/>
              </a:rPr>
              <a:t>ţ</a:t>
            </a: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uri </a:t>
            </a:r>
            <a:r>
              <a:rPr b="1" lang="ro-RO" sz="2800" spc="-1" strike="noStrike">
                <a:solidFill>
                  <a:srgbClr val="ff0066"/>
                </a:solidFill>
                <a:latin typeface="Times New Roman"/>
              </a:rPr>
              <a:t>î</a:t>
            </a: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n care s</a:t>
            </a:r>
            <a:r>
              <a:rPr b="1" lang="ro-RO" sz="2800" spc="-1" strike="noStrike">
                <a:solidFill>
                  <a:srgbClr val="ff0066"/>
                </a:solidFill>
                <a:latin typeface="Times New Roman"/>
              </a:rPr>
              <a:t>ă</a:t>
            </a: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 exis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761760"/>
            <a:ext cx="864072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cc"/>
                </a:solidFill>
                <a:latin typeface="Arial Rounded MT Bold"/>
              </a:rPr>
              <a:t>1.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Pronume personal, persoana a II-a, num</a:t>
            </a:r>
            <a:r>
              <a:rPr b="1" lang="ro-RO" sz="2400" spc="-1" strike="noStrike">
                <a:solidFill>
                  <a:srgbClr val="3333cc"/>
                </a:solidFill>
                <a:latin typeface="Arial Rounded MT Bold"/>
              </a:rPr>
              <a:t>ă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r plural</a:t>
            </a:r>
            <a:r>
              <a:rPr b="1" lang="ro-RO" sz="2400" spc="-1" strike="noStrike">
                <a:solidFill>
                  <a:srgbClr val="3333cc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cc"/>
                </a:solidFill>
                <a:latin typeface="Arial Rounded MT Bold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cc"/>
                </a:solidFill>
                <a:latin typeface="Arial Rounded MT Bold"/>
              </a:rPr>
              <a:t>2. </a:t>
            </a:r>
            <a:r>
              <a:rPr b="1" lang="en-US" sz="2400" spc="-1" strike="noStrike">
                <a:solidFill>
                  <a:srgbClr val="ff33cc"/>
                </a:solidFill>
                <a:latin typeface="Arial Rounded MT Bold"/>
              </a:rPr>
              <a:t>Pronume personal, persoana I, n</a:t>
            </a:r>
            <a:r>
              <a:rPr b="1" lang="ro-RO" sz="2400" spc="-1" strike="noStrike">
                <a:solidFill>
                  <a:srgbClr val="ff33cc"/>
                </a:solidFill>
                <a:latin typeface="Arial Rounded MT Bold"/>
              </a:rPr>
              <a:t>umăr</a:t>
            </a:r>
            <a:r>
              <a:rPr b="1" lang="en-US" sz="2400" spc="-1" strike="noStrike">
                <a:solidFill>
                  <a:srgbClr val="ff33cc"/>
                </a:solidFill>
                <a:latin typeface="Arial Rounded MT Bold"/>
              </a:rPr>
              <a:t> singular</a:t>
            </a:r>
            <a:r>
              <a:rPr b="1" lang="ro-RO" sz="2400" spc="-1" strike="noStrike">
                <a:solidFill>
                  <a:srgbClr val="ff33cc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cc"/>
                </a:solidFill>
                <a:latin typeface="Arial Rounded MT Bold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66"/>
                </a:solidFill>
                <a:latin typeface="Arial Rounded MT Bold"/>
              </a:rPr>
              <a:t>3. </a:t>
            </a:r>
            <a:r>
              <a:rPr b="1" lang="en-US" sz="2400" spc="-1" strike="noStrike">
                <a:solidFill>
                  <a:srgbClr val="660066"/>
                </a:solidFill>
                <a:latin typeface="Arial Rounded MT Bold"/>
              </a:rPr>
              <a:t>Pronume personal, persoana a III-a, num</a:t>
            </a:r>
            <a:r>
              <a:rPr b="1" lang="ro-RO" sz="2400" spc="-1" strike="noStrike">
                <a:solidFill>
                  <a:srgbClr val="660066"/>
                </a:solidFill>
                <a:latin typeface="Arial Rounded MT Bold"/>
              </a:rPr>
              <a:t>ă</a:t>
            </a:r>
            <a:r>
              <a:rPr b="1" lang="en-US" sz="2400" spc="-1" strike="noStrike">
                <a:solidFill>
                  <a:srgbClr val="660066"/>
                </a:solidFill>
                <a:latin typeface="Arial Rounded MT Bold"/>
              </a:rPr>
              <a:t>r plural</a:t>
            </a:r>
            <a:r>
              <a:rPr b="1" lang="ro-RO" sz="2400" spc="-1" strike="noStrike">
                <a:solidFill>
                  <a:srgbClr val="660066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66"/>
                </a:solidFill>
                <a:latin typeface="Arial Rounded MT Bold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3300"/>
                </a:solidFill>
                <a:latin typeface="Arial Rounded MT Bold"/>
              </a:rPr>
              <a:t>4. </a:t>
            </a:r>
            <a:r>
              <a:rPr b="1" lang="en-US" sz="2400" spc="-1" strike="noStrike">
                <a:solidFill>
                  <a:srgbClr val="cc3300"/>
                </a:solidFill>
                <a:latin typeface="Arial Rounded MT Bold"/>
              </a:rPr>
              <a:t>Pronume personal, persoana I, num</a:t>
            </a:r>
            <a:r>
              <a:rPr b="1" lang="ro-RO" sz="2400" spc="-1" strike="noStrike">
                <a:solidFill>
                  <a:srgbClr val="cc3300"/>
                </a:solidFill>
                <a:latin typeface="Arial Rounded MT Bold"/>
              </a:rPr>
              <a:t>ă</a:t>
            </a:r>
            <a:r>
              <a:rPr b="1" lang="en-US" sz="2400" spc="-1" strike="noStrike">
                <a:solidFill>
                  <a:srgbClr val="cc3300"/>
                </a:solidFill>
                <a:latin typeface="Arial Rounded MT Bold"/>
              </a:rPr>
              <a:t>r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3300"/>
                </a:solidFill>
                <a:latin typeface="Arial Rounded MT Bold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3933000"/>
            <a:ext cx="871380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Times New Roman"/>
              </a:rPr>
              <a:t>Subliniază</a:t>
            </a: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 forma corect</a:t>
            </a:r>
            <a:r>
              <a:rPr b="1" lang="ro-RO" sz="3200" spc="-1" strike="noStrike">
                <a:solidFill>
                  <a:srgbClr val="ff0066"/>
                </a:solidFill>
                <a:latin typeface="Times New Roman"/>
              </a:rPr>
              <a:t>ă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4437000"/>
            <a:ext cx="8713800" cy="22269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Tu / Eu 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ş</a:t>
            </a: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tii s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ă</a:t>
            </a: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cânţi la vioară</a:t>
            </a: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Arial Narrow"/>
              </a:rPr>
              <a:t>Ei / Noi vom 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confecţiona felicitări </a:t>
            </a:r>
            <a:r>
              <a:rPr b="1" lang="it-IT" sz="2800" spc="-1" strike="noStrike">
                <a:solidFill>
                  <a:srgbClr val="3333cc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Arial Narrow"/>
              </a:rPr>
              <a:t>Voi / Ea v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ă pregătiţi zilnic lecţii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Arial Narrow"/>
              </a:rPr>
              <a:t>Ea / Noi 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ş</a:t>
            </a:r>
            <a:r>
              <a:rPr b="1" lang="it-IT" sz="2800" spc="-1" strike="noStrike">
                <a:solidFill>
                  <a:srgbClr val="3333cc"/>
                </a:solidFill>
                <a:latin typeface="Arial Narrow"/>
              </a:rPr>
              <a:t>i prietenele ei se 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duc în parc să se joace</a:t>
            </a:r>
            <a:r>
              <a:rPr b="1" lang="it-IT" sz="2800" spc="-1" strike="noStrike">
                <a:solidFill>
                  <a:srgbClr val="3333cc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 Narrow"/>
              </a:rPr>
              <a:t>Eu / Ei 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ş</a:t>
            </a:r>
            <a:r>
              <a:rPr b="1" lang="fr-FR" sz="2800" spc="-1" strike="noStrike">
                <a:solidFill>
                  <a:srgbClr val="3333cc"/>
                </a:solidFill>
                <a:latin typeface="Arial Narrow"/>
              </a:rPr>
              <a:t>i-au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 scris corect tema</a:t>
            </a:r>
            <a:r>
              <a:rPr b="1" lang="fr-FR" sz="2800" spc="-1" strike="noStrike">
                <a:solidFill>
                  <a:srgbClr val="3333cc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260280"/>
            <a:ext cx="8496000" cy="947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 Rounded MT Bold"/>
              </a:rPr>
              <a:t>Subliniaţi numai pronumele personale din următoarea serie de cuvi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197000"/>
            <a:ext cx="8496000" cy="137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66ff"/>
                </a:solidFill>
                <a:latin typeface="Arial Rounded MT Bold"/>
              </a:rPr>
              <a:t>c</a:t>
            </a:r>
            <a:r>
              <a:rPr b="1" lang="ro-RO" sz="2800" spc="-1" strike="noStrike">
                <a:solidFill>
                  <a:srgbClr val="0066ff"/>
                </a:solidFill>
                <a:latin typeface="Arial Rounded MT Bold"/>
              </a:rPr>
              <a:t>âine, vine, tu, nămol, ele, film, iar, </a:t>
            </a:r>
            <a:r>
              <a:rPr b="1" lang="en-US" sz="2800" spc="-1" strike="noStrike">
                <a:solidFill>
                  <a:srgbClr val="0066ff"/>
                </a:solidFill>
                <a:latin typeface="Arial Rounded MT Bold"/>
              </a:rPr>
              <a:t>un, </a:t>
            </a:r>
            <a:r>
              <a:rPr b="1" lang="ro-RO" sz="2800" spc="-1" strike="noStrike">
                <a:solidFill>
                  <a:srgbClr val="0066ff"/>
                </a:solidFill>
                <a:latin typeface="Arial Rounded MT Bold"/>
              </a:rPr>
              <a:t>voi, moţat, el , dânsul, în,</a:t>
            </a:r>
            <a:r>
              <a:rPr b="1" lang="en-US" sz="2800" spc="-1" strike="noStrike">
                <a:solidFill>
                  <a:srgbClr val="0066ff"/>
                </a:solidFill>
                <a:latin typeface="Arial Rounded MT Bold"/>
              </a:rPr>
              <a:t> Andrei,</a:t>
            </a:r>
            <a:r>
              <a:rPr b="1" lang="ro-RO" sz="2800" spc="-1" strike="noStrike">
                <a:solidFill>
                  <a:srgbClr val="0066ff"/>
                </a:solidFill>
                <a:latin typeface="Arial Rounded MT Bold"/>
              </a:rPr>
              <a:t> ea, dar</a:t>
            </a:r>
            <a:r>
              <a:rPr b="1" lang="en-US" sz="2800" spc="-1" strike="noStrike">
                <a:solidFill>
                  <a:srgbClr val="0066ff"/>
                </a:solidFill>
                <a:latin typeface="Arial Rounded MT Bold"/>
              </a:rPr>
              <a:t>, </a:t>
            </a:r>
            <a:r>
              <a:rPr b="1" lang="ro-RO" sz="2800" spc="-1" strike="noStrike">
                <a:solidFill>
                  <a:srgbClr val="0066ff"/>
                </a:solidFill>
                <a:latin typeface="Arial Rounded MT Bold"/>
              </a:rPr>
              <a:t>eu, dânsa, bunicul, cu, noi, pomi, dânsele.</a:t>
            </a:r>
            <a:r>
              <a:rPr b="1" lang="en-US" sz="2800" spc="-1" strike="noStrike">
                <a:solidFill>
                  <a:srgbClr val="ff66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852640"/>
            <a:ext cx="864216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 Rounded MT Bold"/>
              </a:rPr>
              <a:t>Uniţi fiecare pronume personal cu caseta corespunzăto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869000"/>
            <a:ext cx="33116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Pronume personal, persoana a III-a, nr. sing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3933720"/>
            <a:ext cx="33116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Pronume personal, persoana a II-a, nr. pl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5877000"/>
            <a:ext cx="33116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Pronume personal, persoana a I-a, nr sing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877000"/>
            <a:ext cx="33112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Pronume personal, persoana a I-a, nr. pl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4941720"/>
            <a:ext cx="33112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Pronume personal, persoana a III-a, nr. pl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3933720"/>
            <a:ext cx="33112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Pronume personal, persoana a II-a, nr. sing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39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50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5661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422100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300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n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623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49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v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602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4653000"/>
            <a:ext cx="1008360" cy="5047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88640"/>
            <a:ext cx="864216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Times New Roman"/>
              </a:rPr>
              <a:t>Precizează pronumele corespunzătoare următoarelor serii de cuvinte care exprimă acţiu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912600"/>
            <a:ext cx="8642160" cy="3080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învăţ, cumpăr,  desenez                               - 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a mers, aleargă, va cânta </a:t>
            </a: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                         -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priveşti, vei patina, ai întârziat                   -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veţi învăţa, alergaţi, aţi priceput                - .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vom pleca, desenăm, pregătim                  - ...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priveau, aşteptau, cărau, zburdau            - ....</a:t>
            </a: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4149000"/>
            <a:ext cx="857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Arial Rounded MT Bold"/>
              </a:rPr>
              <a:t>Subliniază pronumele persona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4439880"/>
            <a:ext cx="8569080" cy="2226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În tabără voi aţi povestit despre e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Astăzi, el citeşte poezii de </a:t>
            </a: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George Co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şbu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Noi am plecat spre cas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Eu sunt încântat de cadoul primit de la m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765000"/>
            <a:ext cx="878544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8000"/>
                </a:solidFill>
                <a:latin typeface="Arial"/>
              </a:rPr>
              <a:t>Completează spaţiile punctate astfel încât să eviţi repetarea numelui de persoană în al doilea enun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700280"/>
            <a:ext cx="8785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1. Dan face parte din echipa de tenis a şcolii.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</a:rPr>
              <a:t>....</a:t>
            </a: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 se antrenează cu multă seriozi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2637000"/>
            <a:ext cx="87868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2. Elena scrie o compunere despre primăvară .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.</a:t>
            </a: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 îşi alege cu grijă cuvinte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3573360"/>
            <a:ext cx="87868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3. Bogdan şi Florin merg la olimpiada de română. 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</a:rPr>
              <a:t>.…</a:t>
            </a: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 vor să obţină rezultate foarte b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4508640"/>
            <a:ext cx="8785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4. Elena şi Mirela sunt  fericite. 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</a:rPr>
              <a:t>….</a:t>
            </a: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 au primit diplome la concursul de î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1700280"/>
            <a:ext cx="6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549360"/>
            <a:ext cx="871380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cc"/>
                </a:solidFill>
                <a:latin typeface="Arial Rounded MT Bold"/>
              </a:rPr>
              <a:t>Descoperiţi pronumele personale care se ascund în cuvintele următaoare după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484280"/>
            <a:ext cx="8713800" cy="18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a50021"/>
                </a:solidFill>
                <a:latin typeface="Arial Rounded MT Bold"/>
              </a:rPr>
              <a:t>drap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el, </a:t>
            </a:r>
            <a:r>
              <a:rPr b="1" lang="ro-RO" sz="2800" spc="-1" strike="noStrike">
                <a:solidFill>
                  <a:srgbClr val="a50021"/>
                </a:solidFill>
                <a:latin typeface="Arial Rounded MT Bold"/>
              </a:rPr>
              <a:t>voinic, jaluzele, volei, noiembrie, mătură,</a:t>
            </a:r>
            <a:r>
              <a:rPr b="1" lang="ro-RO" sz="2800" spc="-1" strike="noStrike">
                <a:solidFill>
                  <a:srgbClr val="ff0066"/>
                </a:solidFill>
                <a:latin typeface="Arial Rounded MT Bold"/>
              </a:rPr>
              <a:t> </a:t>
            </a:r>
            <a:r>
              <a:rPr b="1" lang="ro-RO" sz="2800" spc="-1" strike="noStrike">
                <a:solidFill>
                  <a:srgbClr val="a50021"/>
                </a:solidFill>
                <a:latin typeface="Arial Rounded MT Bold"/>
              </a:rPr>
              <a:t>teatru,  Angela, greutate, jupâneasă, băieţel, </a:t>
            </a:r>
            <a:r>
              <a:rPr b="1" lang="ro-RO" sz="2400" spc="-1" strike="noStrike">
                <a:solidFill>
                  <a:srgbClr val="a50021"/>
                </a:solidFill>
                <a:latin typeface="Arial"/>
              </a:rPr>
              <a:t>trei</a:t>
            </a:r>
            <a:r>
              <a:rPr b="0" lang="ro-RO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a50021"/>
                </a:solidFill>
                <a:latin typeface="Arial Rounded MT Bold"/>
              </a:rPr>
              <a:t>turneu, telefon, împreună, voios, grea, elev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3500280"/>
            <a:ext cx="8713800" cy="94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Arial Rounded MT Bold"/>
              </a:rPr>
              <a:t>Scrie enunţuri  în care cuvântul  ,, noi’’ să fie pe rând, pronume şi adject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4581360"/>
            <a:ext cx="87138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5157720"/>
            <a:ext cx="87138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692280"/>
            <a:ext cx="8569080" cy="947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Arial Rounded MT Bold"/>
              </a:rPr>
              <a:t>Completaţi enunţurile cu unul din pronumele pers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628640"/>
            <a:ext cx="8569080" cy="6119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..... citesc o carte de poveş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..... aţi pregătit o piesă de teatru pentru serba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..... au primit note mari la testul de la ştiinţe.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..... mi-a împrumutat culegerea de matematică.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..... ai câteva absenţe nemotivate.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a var</a:t>
            </a: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ă </a:t>
            </a:r>
            <a:r>
              <a:rPr b="1" lang="ro-RO" sz="2800" spc="-1" strike="noStrike">
                <a:solidFill>
                  <a:srgbClr val="a50021"/>
                </a:solidFill>
                <a:latin typeface="Arial"/>
              </a:rPr>
              <a:t>.... </a:t>
            </a: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plecăm în expediţie pe Ceahlău.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600cc"/>
                </a:solidFill>
                <a:latin typeface="Arial"/>
              </a:rPr>
              <a:t>.....</a:t>
            </a: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 este cea mai bună prietenă a familiei me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260280"/>
            <a:ext cx="820908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Arial Rounded MT Bold"/>
              </a:rPr>
              <a:t>Treceţi pronume personale de la numărul plural la numărul singular şi transcrie enunţurile obţinute </a:t>
            </a:r>
            <a:r>
              <a:rPr b="0" lang="ro-RO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19700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1. Ei dansează cu 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119700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70028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2. Voi, mai învăţaţi cu e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170028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27664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278136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27664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3. Noi vorbim cu 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278136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4. Ele se întâlnesc cu 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4075560"/>
            <a:ext cx="83534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Arial Rounded MT Bold"/>
              </a:rPr>
              <a:t>Subliniaţi forma corectă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578840"/>
            <a:ext cx="849780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1.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Ei  </a:t>
            </a:r>
            <a:r>
              <a:rPr b="1" lang="ro-RO" sz="2400" spc="-1" strike="noStrike">
                <a:solidFill>
                  <a:srgbClr val="008000"/>
                </a:solidFill>
                <a:latin typeface="Arial Rounded MT Bold"/>
              </a:rPr>
              <a:t>/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iei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 au fost prietenii m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2.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Eu </a:t>
            </a:r>
            <a:r>
              <a:rPr b="1" lang="ro-RO" sz="2400" spc="-1" strike="noStrike">
                <a:solidFill>
                  <a:srgbClr val="008000"/>
                </a:solidFill>
                <a:latin typeface="Arial Rounded MT Bold"/>
              </a:rPr>
              <a:t>/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ieu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 îmi pregătesc singur tem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3.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El </a:t>
            </a:r>
            <a:r>
              <a:rPr b="1" lang="ro-RO" sz="2400" spc="-1" strike="noStrike">
                <a:solidFill>
                  <a:srgbClr val="008000"/>
                </a:solidFill>
                <a:latin typeface="Arial Rounded MT Bold"/>
              </a:rPr>
              <a:t>/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iel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 a renunţat să meargă în excurs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4.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Ia 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 /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ea 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prezintă spectacolul pentru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iei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 /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ei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5. Zilnic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ieu 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/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eu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 merg cu bicicleta la şcoal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328464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5. Noi plecăm cu 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328464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476280"/>
            <a:ext cx="8748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 Rounded MT Bold"/>
              </a:rPr>
              <a:t>Analizaţi pronumele personale din textul de mai jos arătând numărul şi persoana 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484280"/>
            <a:ext cx="878544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,, - Dragii mamii copilaşi, eu mă duc în pădure după mâncare. Voi încuiaţi uşa după mine. Auzit-aţi ce-am spus eu? 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- Da mămucă, ziseră ei.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                                               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- Pot să am încredere în voi?                                            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- Da, mămucă! Noi suntem o dată băieţi.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95280" y="3645000"/>
          <a:ext cx="8353440" cy="2889000"/>
        </p:xfrm>
        <a:graphic>
          <a:graphicData uri="http://schemas.openxmlformats.org/drawingml/2006/table">
            <a:tbl>
              <a:tblPr/>
              <a:tblGrid>
                <a:gridCol w="3097080"/>
                <a:gridCol w="2232000"/>
                <a:gridCol w="302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ronumele pers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ersoan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umăru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OAN BUSUIOC</dc:creator>
  <dc:description/>
  <dc:language>en-US</dc:language>
  <cp:lastModifiedBy>IULIA</cp:lastModifiedBy>
  <dcterms:modified xsi:type="dcterms:W3CDTF">2010-02-06T19:02:14Z</dcterms:modified>
  <cp:revision>70</cp:revision>
  <dc:subject/>
  <dc:title>PRONUMELE PERSONAL</dc:title>
</cp:coreProperties>
</file>